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png" ContentType="image/png"/>
  <Override PartName="/ppt/media/image2.jpeg" ContentType="image/jpe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FC61-0146-4558-B758-8EE7ED344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8F8-209F-46E3-A1F3-B8BBFB77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38F-8B5C-4B21-9817-F0EC13BC5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0253-D11A-4397-8C09-44FCFD0D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039B-2B98-4BDF-BA6F-9B109DE9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4499-4CAE-4145-92D1-E45FA1AD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2BB4-95BF-47B4-83FD-F3A58273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47A0-B644-4DB0-AB18-3A85337E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596F-7B1C-4A01-AE5E-CBC403D6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C267-2094-4A1D-B342-7EA3FAF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2A6C-14A5-42B5-B934-594B69AE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256-2118-461E-AECE-5125D529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3C9-EA6D-4DC5-BFD9-9EEEE45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9E3E-CDA9-47B9-AD48-ED1E4347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931E-C035-4876-AD5D-0E7E3B73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BB12-1B28-4C16-8DC6-BC299AA5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BD13-C164-41D8-A3BB-58984C20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D49B-05A0-497E-BD63-197AFEC7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931-032C-4567-BF30-42E0C58B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C7E6-A7FE-4FFE-8D4E-BAD0C63B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2FC8-3E45-472B-96FE-4AF4D4F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0825-BD90-48D6-A566-D7746233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9444-80A0-4EE0-AFE3-5ECA28FA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DF3-E503-4711-819E-E5EBA9C4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4ECA-D848-4674-B237-BE735F09BE00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31FC-1D49-40F2-880F-C6F216E4660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FEF4-D7A8-4759-8F7E-071F8FBAAFE6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856A-E676-4C46-BFE9-94BDB51F2D8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332000" y="4365720"/>
            <a:ext cx="6580080" cy="18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程继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jgcheng63@sina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楷体_GB2312"/>
              </a:rPr>
              <a:t>材料科学与工程学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197000"/>
            <a:ext cx="8209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spcBef>
                <a:spcPts val="2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Clarendon Extended"/>
                <a:ea typeface="楷体_GB2312"/>
              </a:rPr>
              <a:t>《粉末冶金原理》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Garamond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第五章 烧结技术</a:t>
            </a:r>
            <a:r>
              <a:rPr b="1" lang="en-US" sz="3200" spc="-1" strike="noStrike">
                <a:solidFill>
                  <a:srgbClr val="008080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808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tering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69D-75F4-4354-B8AC-6487D4E07D8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69A69-8C4C-477E-8A7F-9C0415A243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76327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升温及冷却速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升温速度影响润滑剂等的挥发速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冷却速度影响制品的微观结构和性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824720" cy="322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77080" y="5229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20CD-515C-46A9-A7A7-C19B9D2D230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3B071-1FC0-4E2C-8AEE-988ECDDCFF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17560" y="2349360"/>
          <a:ext cx="7499520" cy="2941560"/>
        </p:xfrm>
        <a:graphic>
          <a:graphicData uri="http://schemas.openxmlformats.org/drawingml/2006/table">
            <a:tbl>
              <a:tblPr/>
              <a:tblGrid>
                <a:gridCol w="1500120"/>
                <a:gridCol w="1596960"/>
                <a:gridCol w="1584360"/>
                <a:gridCol w="1656000"/>
                <a:gridCol w="1162080"/>
              </a:tblGrid>
              <a:tr h="48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冷却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  铜  制  品  中  的  含  铜  量  （％）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3.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0.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8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36.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3.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8.9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9.8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34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1.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5.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0.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2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8.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0.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1.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684360" y="13971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冷却方式对抗拉强度的影响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kgf/mm</a:t>
            </a:r>
            <a:r>
              <a:rPr b="1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BF00-E656-4A36-89CF-F243131BCACA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1BC36-B50B-4759-B2C6-7B06F7368C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98100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二）铜基粉末冶金零件烧结工艺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6480" y="1628640"/>
            <a:ext cx="5609160" cy="2282400"/>
            <a:chOff x="546480" y="1628640"/>
            <a:chExt cx="5609160" cy="2282400"/>
          </a:xfrm>
        </p:grpSpPr>
        <p:sp>
          <p:nvSpPr>
            <p:cNvPr id="148" name=""/>
            <p:cNvSpPr/>
            <p:nvPr/>
          </p:nvSpPr>
          <p:spPr>
            <a:xfrm>
              <a:off x="1913400" y="1824480"/>
              <a:ext cx="361440" cy="1827720"/>
            </a:xfrm>
            <a:custGeom>
              <a:avLst/>
              <a:gdLst>
                <a:gd name="textAreaLeft" fmla="*/ 231120 w 361440"/>
                <a:gd name="textAreaRight" fmla="*/ 361800 w 361440"/>
                <a:gd name="textAreaTop" fmla="*/ 47520 h 1827720"/>
                <a:gd name="textAreaBottom" fmla="*/ 1780200 h 18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480" y="2411640"/>
              <a:ext cx="119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粉末冶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Cu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基制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346840" y="2215800"/>
              <a:ext cx="3808800" cy="825480"/>
              <a:chOff x="2346840" y="2215800"/>
              <a:chExt cx="3808800" cy="825480"/>
            </a:xfrm>
          </p:grpSpPr>
          <p:sp>
            <p:nvSpPr>
              <p:cNvPr id="151" name=""/>
              <p:cNvSpPr/>
              <p:nvPr/>
            </p:nvSpPr>
            <p:spPr>
              <a:xfrm>
                <a:off x="2346840" y="2282040"/>
                <a:ext cx="202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宋体"/>
                  </a:rPr>
                  <a:t>青铜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宋体"/>
                  </a:rPr>
                  <a:t>Cu-S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15120" y="2215800"/>
                <a:ext cx="1640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6-6-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青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90/10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青铜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53320" y="2282040"/>
                <a:ext cx="288000" cy="651600"/>
              </a:xfrm>
              <a:custGeom>
                <a:avLst/>
                <a:gdLst>
                  <a:gd name="textAreaLeft" fmla="*/ 183960 w 288000"/>
                  <a:gd name="textAreaRight" fmla="*/ 288360 w 288000"/>
                  <a:gd name="textAreaTop" fmla="*/ 16920 h 651600"/>
                  <a:gd name="textAreaBottom" fmla="*/ 634680 h 65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346840" y="2934000"/>
              <a:ext cx="25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黄铜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u-Z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74840" y="1628640"/>
              <a:ext cx="25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纯铜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46840" y="3390480"/>
              <a:ext cx="2530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镍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u-Ni-Z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971640" y="4005360"/>
            <a:ext cx="7632720" cy="21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烧结的主要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同材料烧结温度相差较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-10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℃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焙烘）预氧化烧结的采用（部分）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普遍采用网带式烧结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084720" y="1844640"/>
            <a:ext cx="2880000" cy="2171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5008-3B78-4C70-B31D-5A6D58CF9174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C7774-6D64-46BD-AD3D-33202836E9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250920" y="2060640"/>
          <a:ext cx="8713800" cy="3139920"/>
        </p:xfrm>
        <a:graphic>
          <a:graphicData uri="http://schemas.openxmlformats.org/drawingml/2006/table">
            <a:tbl>
              <a:tblPr/>
              <a:tblGrid>
                <a:gridCol w="1876320"/>
                <a:gridCol w="1051200"/>
                <a:gridCol w="1049040"/>
                <a:gridCol w="1051200"/>
                <a:gridCol w="1022040"/>
                <a:gridCol w="1008360"/>
                <a:gridCol w="16556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烧结材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成          分        （％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烧结温度范围（℃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6-6-3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青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其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5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90Cu-10Sn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青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其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9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5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纯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5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0-3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黄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67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其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825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9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Cu-Ni-Zn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合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940</a:t>
                      </a:r>
                      <a:r>
                        <a:rPr b="1" lang="zh-CN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20764"/>
                          </a:solidFill>
                          <a:latin typeface="Arial"/>
                        </a:rPr>
                        <a:t>1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684360" y="981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几种铜合金的烧结温度范围</a:t>
            </a:r>
            <a:r>
              <a:rPr b="1" lang="en-US" sz="2400" spc="-1" strike="noStrike">
                <a:solidFill>
                  <a:srgbClr val="006633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3F01-872B-4C04-A5EF-DFA30F2830D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303C7-EC8E-4CC3-96F2-D08953C5DF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1280" y="1484280"/>
            <a:ext cx="806436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焙烘的目的（常用于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u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、青铜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分挥发并烧除硬脂酸锌润滑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粉末颗粒表面氧化，得到薄层氧化物，实现活化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，温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0-50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氧化物层厚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4FA-8FCB-4216-8CAF-7AE25D470A0B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16517-C6C0-41F2-BB31-FC1BCA91E2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11280" y="83340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三、烧结缺陷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413000"/>
            <a:ext cx="72010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形状与尺寸缺陷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形与翘曲             ● 尺寸超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26920" y="2421000"/>
            <a:ext cx="5256360" cy="37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分层与开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鼓泡与麻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鼓泡：圆滑凸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麻点：黑麻点、白亮麻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过烧与欠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烧：粘接、局部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欠烧：未烧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C0D7-7E91-4D1B-B190-9044AB54139D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23FB8B-89E8-4A91-AC58-F32E9B5FF3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16000" y="1096920"/>
            <a:ext cx="7128000" cy="39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氧化与脱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氧化：多出现于烧结降温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脱碳：氧化的另一种形式，多发生于高温烧结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金相组织缺陷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二次网状渗碳体缺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块渗碳体聚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通孔隙缺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646-5CB8-450E-A09B-70BAFE4A7927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C6F61-03C7-494F-A8BE-0CE45C23E4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9640" y="90648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第二节 烧结气氛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Sintering atmosp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69704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一、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95280" y="2277720"/>
            <a:ext cx="8424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烧结气氛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控制烧结体与环境之间的化学反应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保护作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减少环境对制品的影响，如防氧化、脱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净化作用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带走烧结坯体中润滑剂和成形剂的分解产物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）维持或改变烧结材料中的有用成分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化气氛、渗碳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84F-F527-440F-A902-F1AAB58B1E0F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FAEF3-C24F-4C8A-9C6A-5D1930D7F6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07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烧结气氛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氧化性气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氧化物复合材料及氧化物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瓷的烧结：空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还原性气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份的烧结气氛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硬质合金烧结用氢气氛，铁基、铜基粉末冶金零件的含氢气氛（氨分解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惰性或中性气氛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真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渗碳气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有较高的导致烧结体渗碳的组元，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碳氢化合物气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氮基气氛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含氮量很高的烧结气氛：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5E09-F91F-4BCA-ACA1-16DEF229690C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C089F-44EF-4D03-97A2-EFF6BCF830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6840" y="842760"/>
            <a:ext cx="8147160" cy="28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.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烧结气氛的选用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保持烧结体成分基本不变（特殊除外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●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定的还原性（许多情况下需要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腐蚀性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人无害，生产、使用安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本—来源、制取工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41440" y="4005360"/>
          <a:ext cx="8278560" cy="2141280"/>
        </p:xfrm>
        <a:graphic>
          <a:graphicData uri="http://schemas.openxmlformats.org/drawingml/2006/table">
            <a:tbl>
              <a:tblPr/>
              <a:tblGrid>
                <a:gridCol w="2758680"/>
                <a:gridCol w="2760840"/>
                <a:gridCol w="2759040"/>
              </a:tblGrid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氛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用所占比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用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热型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碳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解氨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锈钢、碳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热型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铜基材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真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铝基材料及其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900000" y="3500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国外粉末冶金工业用烧结气氛举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E3C-D2C1-4B22-9C5C-CEE54B8211B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FF406-9608-403D-84FC-AFD0FD948D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03280" y="1268280"/>
            <a:ext cx="684072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本章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§5.1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烧结工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§5.2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烧结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§5.3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烧结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§5.4  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特殊烧结技术和烧结新技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BCE-6FB4-4041-904B-DACEBD035263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D91F1-ABD7-4774-AA43-AE4F000BAB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966960"/>
            <a:ext cx="7772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不同烧结气氛的成本比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宋体"/>
              </a:rPr>
              <a:t>以电解氢的成本为参考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氮基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itrogen-based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气氛：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分解氨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ssociated ammoni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：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吸热性气氛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endothermal gas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：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放热性气氛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exothermal gas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：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真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vaccum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：昂贵（设备投资大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F30-F445-445E-ACE4-CFBE96FB1E87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E370C-1F5C-43BE-A6FF-12C912E6DA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920" y="98100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、吸热型气氛和放热型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4247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转化气的概念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碳氢化合物气体（天然气、石油气、焦炉煤气）为原料，采用空气或水蒸气在高温下进行反应，而得到的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主，并含有少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混合气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由天然气转化—— 称为转化天然气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由煤气转化 —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D94-4BAB-4329-8202-C9B67B53961F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0D450-0B30-43C6-A663-B65AC05740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79280" y="907560"/>
            <a:ext cx="8785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放热型气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备转化气时，原料气体与空气按一定比例通过转化器，若空气与原料气体比例较高，反应过程中放出的热量足够维持转化器的反应温度，不需外部向反应器供热，由此得到的转化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95640" y="2924280"/>
            <a:ext cx="5256000" cy="3429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494-7D38-4160-9523-C8A87C232D9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86273F-6E25-4954-B41D-01B879E640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072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吸热型气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制备转化气时，若空气与原料气体比例较低，反应过程中放出的热量不足以维持转化器的反应温度，需外部向反应器供热，由此得到的转化气称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692360" y="2565360"/>
            <a:ext cx="6335640" cy="3586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C75-E2E8-4F01-A30E-E6F376A3EE0F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8C24D-06A2-4527-BC13-2D87D1FCA1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7200" y="3716280"/>
            <a:ext cx="7931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Garamond"/>
              </a:rPr>
              <a:t>铁制品烧结用转化气体标准成分及应用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770040"/>
            <a:ext cx="460836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宋体"/>
              </a:rPr>
              <a:t>▲</a:t>
            </a:r>
            <a:r>
              <a:rPr b="1" lang="en-US" sz="2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3333cc"/>
                </a:solidFill>
                <a:latin typeface="Arial"/>
              </a:rPr>
              <a:t>吸热、放热型气体比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341360"/>
            <a:ext cx="860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热型气氛制备时空气比例较高，燃料气完全燃烧，而吸热型气氛制备时空气比例较低，燃料气不完全燃烧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●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放热型气氛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含量较高，而吸热型气氛中中可能有少量未燃烧的燃料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吸热、放热型气体的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标准成分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-14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4360" y="4221000"/>
          <a:ext cx="8064360" cy="1968480"/>
        </p:xfrm>
        <a:graphic>
          <a:graphicData uri="http://schemas.openxmlformats.org/drawingml/2006/table">
            <a:tbl>
              <a:tblPr/>
              <a:tblGrid>
                <a:gridCol w="1366920"/>
                <a:gridCol w="3097080"/>
                <a:gridCol w="360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气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成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应用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热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-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-Cu-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高强度零件；爆炸性极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热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纯铁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-Cu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烧结零件；有爆炸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706-36A6-40E6-A9A1-49D0F531772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A07A9-C904-4774-A012-F489EB20FC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11280" y="7650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三、铁基制品无氧化无脱碳烧结控制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08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无氧化烧结控制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含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/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氛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2421000"/>
            <a:ext cx="5111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两线分别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O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还原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eO</a:t>
            </a: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平衡时的气相平衡组成与温度关系，线左还原，线右氧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:  FeO + CO = Fe + CO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:  FeO + 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= Fe + 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向右； ②区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: 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向左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区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左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右；  ④区：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右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724360" y="1700280"/>
            <a:ext cx="3022560" cy="4464000"/>
            <a:chOff x="5724360" y="1700280"/>
            <a:chExt cx="3022560" cy="4464000"/>
          </a:xfrm>
        </p:grpSpPr>
        <p:pic>
          <p:nvPicPr>
            <p:cNvPr id="201" name="" descr=""/>
            <p:cNvPicPr/>
            <p:nvPr/>
          </p:nvPicPr>
          <p:blipFill>
            <a:blip r:embed="rId2"/>
            <a:stretch/>
          </p:blipFill>
          <p:spPr>
            <a:xfrm>
              <a:off x="5724360" y="1700280"/>
              <a:ext cx="30225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532560" y="350064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757280" y="335592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36560" y="177156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52560" y="422136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717B-A4E6-4178-959B-5E663EA40FAA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2A206-9B5C-4EF2-A4C5-7F087D1AFC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4360" y="1773360"/>
            <a:ext cx="44640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无氧化烧结 ，应在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①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00℃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还原区域更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随温度升高，欲保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/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氛的还原性，需降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还原能力随温度变化规律相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364000" y="1125360"/>
            <a:ext cx="3022560" cy="4464000"/>
            <a:chOff x="5364000" y="1125360"/>
            <a:chExt cx="3022560" cy="446400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5364000" y="1125360"/>
              <a:ext cx="3022560" cy="44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172200" y="292572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96920" y="278100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676200" y="11966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92200" y="36464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258920" y="4508640"/>
            <a:ext cx="25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2B1-01F1-47A9-88D0-934469566323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B170D-1886-42E9-AA2C-764FF149F3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1052280"/>
            <a:ext cx="813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无脱碳烧结控制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99ff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/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/CO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气氛中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2492280"/>
            <a:ext cx="5184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图中两线分别为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氛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氛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应平衡时气相平衡组成与温度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:  Fe + 2CO =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C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2:  Fe + 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e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+ 2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580000" y="1557360"/>
            <a:ext cx="3267000" cy="4019400"/>
            <a:chOff x="5580000" y="1557360"/>
            <a:chExt cx="3267000" cy="4019400"/>
          </a:xfrm>
        </p:grpSpPr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5580000" y="1557360"/>
              <a:ext cx="326700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 flipV="1">
              <a:off x="6877080" y="3212640"/>
              <a:ext cx="360360" cy="36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23708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516720" y="2852280"/>
              <a:ext cx="57600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94160" y="26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5F10-0B8A-4648-A2AE-C6AE710800FD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5D1D21-D900-4E8B-8664-37FCA1647F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981000"/>
            <a:ext cx="5040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，发生脱碳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平衡浓度很低，说明高温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C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易脱碳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脱碳趋势降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氛中，通常烧结温度下，气氛中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存在，可能导致渗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 一般转化气中，脱碳、渗碳还与气氛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有关。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→气氛碳势控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435640" y="1557360"/>
            <a:ext cx="3267000" cy="4019400"/>
            <a:chOff x="5435640" y="1557360"/>
            <a:chExt cx="3267000" cy="4019400"/>
          </a:xfrm>
        </p:grpSpPr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5435640" y="1557360"/>
              <a:ext cx="3267000" cy="40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 flipV="1">
              <a:off x="6732720" y="3212640"/>
              <a:ext cx="360360" cy="360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2720" y="2997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372360" y="2852280"/>
              <a:ext cx="57600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49800" y="26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9AE-18F1-46EC-A255-4569423AFBC8}" type="slidenum">
              <a:t>2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18639-87EC-4703-9867-6535F6C911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68360" y="977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四、可控碳势气氛和气氛碳势控制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00000" y="263844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气氛碳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气氛的相对含碳量，相当于一定温度下气氛与一定含碳量的烧结材料达到反应平衡时（不渗碳、不脱碳），该材料中的碳含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可控碳势气氛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控制或调整烧结钢的含碳量，而向烧结体系中引入的经过制备的气体介质的总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84464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气氛碳势和可控碳势气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2846-03EE-4B26-A6C9-996081E1A50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68E80-7028-4D9B-BF9A-BD5F78C186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68360" y="907920"/>
            <a:ext cx="46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一节 烧结工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557360"/>
            <a:ext cx="8064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烧结基本工艺过程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粉末压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装料（装炉、烧结前的准备）→烧结（预热、保温、冷却）→出炉→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烧结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292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一、烧结前的准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6450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压坯的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4221000"/>
            <a:ext cx="7559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目的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去除尺寸、单重不合格或有掉边、掉角、分层、裂纹等缺陷的压坯，减少烧结废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300640"/>
            <a:ext cx="7559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方法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抽检、肉眼观察、仪器检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379C-36E2-4074-AED6-479578C2050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FFA52A-645D-4191-AB97-891874DCAA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●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可控碳势气氛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3399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▲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吸热型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▲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热型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▲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解氨气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基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▲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真空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C40-CA6B-4F91-8B04-B383AD4191D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9B8D9-ABE8-4986-A1C0-9539799328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49528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B0A-6809-4D76-A8A3-D7B4E7332EAD}" type="slidenum">
              <a:t>3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29AEE-FC73-4B70-AFF7-406843029C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9288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二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气氛碳势控制原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539280" y="1628640"/>
            <a:ext cx="820764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关键是控制气氛中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量的控制—露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露点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标准大气压下，气氛中水蒸汽开始凝结成雾的温度，气氛中含水量愈多，露点愈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露点可采用露点仪测量：利用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LiCl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吸水导电性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的量的控制—红外吸收分析仪测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234-E91A-4CCE-96F7-50BEFEB1A17E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C045C-2E37-47CE-B0C3-3E27737A4F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8334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五、真空烧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04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实质上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压烧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真空度一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H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10-1.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-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（一）真空烧结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减少气氛中有害成分对产品的脏化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较为理想的中性气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可改善液相烧结时的润湿角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利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杂质及其氧化物的排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→净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利于排除吸附气体，对后期收缩作用明显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备投资大，单炉产量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854-6988-4581-AC3C-DA6C65C8D419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0F640-A996-4B6A-9674-BAB653E459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二）真空烧结技术难点（关键）及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真空的获得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→真空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机械真空泵、扩散真空泵、分子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粘接金属等的挥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▲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影响合金的最终组成，阻碍烧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金属本身的蒸气压、真空度、烧结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▲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解决：控制真空度（绝对压力）高于烧结温度下的蒸气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0224-7437-45B2-99BA-32D64AC0DA95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F7D064-9017-4075-8B0B-A337398C3A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755640" y="1125360"/>
            <a:ext cx="5759640" cy="11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含碳材料烧结时的脱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发生于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烧结升温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424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Arial"/>
                <a:ea typeface="楷体_GB2312"/>
              </a:rPr>
              <a:t>（三）真空烧结工艺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真空烧结易于排除杂质和吸附气体，促进烧结，达到与气氛烧结相同的致密化程度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烧结温度可以降低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0-150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与气氛烧结相同的烧结温度下，可以缩短烧结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A34-F9F2-42F3-8250-A7A2CBF962CF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6AD36-064A-4A10-B9B6-DD066B3D7E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9640" y="9777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三节 烧结炉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Sintering furn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8000" y="2492280"/>
            <a:ext cx="828036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粉末冶金烧结炉与其他冶金炉不同，必须带有保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氛或为真空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烧结炉的温度控制非常重要，对升温和冷却速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有要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烧结炉有三个温度带（区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预热带、高温带、冷却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39640" y="1844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一、概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EC4-105E-41CA-8763-828DB16F1230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94C97-1CE7-401C-919E-4418B06080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7272360" cy="54561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33D-0D53-4D1D-A5B4-D23007F88076}" type="slidenum">
              <a:t>3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801E0-1052-4BEE-B15B-813448655F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71640" y="880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●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粉末冶金烧结炉的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862560" y="1484280"/>
            <a:ext cx="7596720" cy="3586320"/>
            <a:chOff x="862560" y="1484280"/>
            <a:chExt cx="7596720" cy="3586320"/>
          </a:xfrm>
        </p:grpSpPr>
        <p:sp>
          <p:nvSpPr>
            <p:cNvPr id="260" name=""/>
            <p:cNvSpPr/>
            <p:nvPr/>
          </p:nvSpPr>
          <p:spPr>
            <a:xfrm>
              <a:off x="2279160" y="1822320"/>
              <a:ext cx="434880" cy="2853000"/>
            </a:xfrm>
            <a:custGeom>
              <a:avLst/>
              <a:gdLst>
                <a:gd name="textAreaLeft" fmla="*/ 277920 w 434880"/>
                <a:gd name="textAreaRight" fmla="*/ 435240 w 434880"/>
                <a:gd name="textAreaTop" fmla="*/ 74160 h 2853000"/>
                <a:gd name="textAreaBottom" fmla="*/ 2778840 h 285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62560" y="2909880"/>
              <a:ext cx="1186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99ff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粉末冶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烧结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31840" y="1619280"/>
              <a:ext cx="2036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按装炉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宋体"/>
                </a:rPr>
                <a:t> 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连续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1484280"/>
              <a:ext cx="253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连续式烧结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间歇式烧结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68840" y="1687320"/>
              <a:ext cx="289800" cy="747720"/>
            </a:xfrm>
            <a:custGeom>
              <a:avLst/>
              <a:gdLst>
                <a:gd name="textAreaLeft" fmla="*/ 185040 w 289800"/>
                <a:gd name="textAreaRight" fmla="*/ 290160 w 289800"/>
                <a:gd name="textAreaTop" fmla="*/ 19440 h 747720"/>
                <a:gd name="textAreaBottom" fmla="*/ 72828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57320" y="3112920"/>
              <a:ext cx="203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按加热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77880" y="2638440"/>
              <a:ext cx="32814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燃料加热烧结炉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电加热烧结炉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他烧结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88080" y="3044880"/>
              <a:ext cx="289800" cy="747720"/>
            </a:xfrm>
            <a:custGeom>
              <a:avLst/>
              <a:gdLst>
                <a:gd name="textAreaLeft" fmla="*/ 185040 w 289800"/>
                <a:gd name="textAreaRight" fmla="*/ 290160 w 289800"/>
                <a:gd name="textAreaTop" fmla="*/ 19440 h 747720"/>
                <a:gd name="textAreaBottom" fmla="*/ 72828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31840" y="4335480"/>
              <a:ext cx="203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按气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43000" y="4062240"/>
              <a:ext cx="2534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气氛烧结炉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真空烧结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07760" y="4199040"/>
              <a:ext cx="289800" cy="747720"/>
            </a:xfrm>
            <a:custGeom>
              <a:avLst/>
              <a:gdLst>
                <a:gd name="textAreaLeft" fmla="*/ 185040 w 289800"/>
                <a:gd name="textAreaRight" fmla="*/ 290160 w 289800"/>
                <a:gd name="textAreaTop" fmla="*/ 19440 h 747720"/>
                <a:gd name="textAreaBottom" fmla="*/ 728280 h 74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515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其他分类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烧结温度、按送料机构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5390-AC2D-42A2-8E30-6E040D1A86C3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82EBF8-7E9E-4428-8E50-65627955A1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9640" y="8334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二、带有保护气氛的连续式烧结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1484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一） 炉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6192720" cy="3826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53BF-43E0-4E98-BE9B-E686CE3FF742}" type="slidenum">
              <a:t>3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016B1-B94D-4DAE-B312-BA0420728A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4360" y="1197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装炉（装舟及摆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989000"/>
            <a:ext cx="7559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杆式烧结炉—装舟；网带式烧结炉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摆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51276" r="0" b="0"/>
          <a:stretch/>
        </p:blipFill>
        <p:spPr>
          <a:xfrm>
            <a:off x="4643280" y="2997360"/>
            <a:ext cx="4211640" cy="2820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4176720" cy="2850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3405-BD75-4E8B-8B7D-333801ADD6F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42EF9-512E-49B9-89CC-92653094F2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572320" cy="42865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9DD-2982-492A-A54A-5225D9D7BEA1}" type="slidenum">
              <a:t>4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15923-D93C-44F3-927E-95DA37DCDE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4360" y="836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二） 压坯传输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2060640"/>
            <a:ext cx="9144000" cy="39225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50920" y="155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网带式传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BEF-3927-4584-84EE-D734BE68C2AE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7CBAB-AD36-4F14-B2F5-62EEFCC66B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8675640" cy="3178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0932-8A3F-4091-BF2E-BE148D81454C}" type="slidenum">
              <a:t>4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7C1EE-4870-4012-B752-E11AE54D94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2"/>
          <a:srcRect l="6193" t="0" r="5972" b="0"/>
          <a:stretch/>
        </p:blipFill>
        <p:spPr>
          <a:xfrm>
            <a:off x="324000" y="1052640"/>
            <a:ext cx="8675640" cy="486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307-0BBA-4C81-9334-CB2073B56E39}" type="slidenum">
              <a:t>4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9A441-3AC0-4529-9F24-8FDF895B4C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rcRect l="0" t="0" r="0" b="53633"/>
          <a:stretch/>
        </p:blipFill>
        <p:spPr>
          <a:xfrm>
            <a:off x="0" y="2276640"/>
            <a:ext cx="4653000" cy="29653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51276" r="0" b="0"/>
          <a:stretch/>
        </p:blipFill>
        <p:spPr>
          <a:xfrm>
            <a:off x="4716360" y="2276640"/>
            <a:ext cx="4427640" cy="2965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23640" y="1125360"/>
            <a:ext cx="818964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amples of Sintering Production Lines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1CDB-12F7-468E-9E0D-2A8F4743C7E9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FE419-9F21-46C4-935A-96A0C40050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95280" y="1341360"/>
            <a:ext cx="8353440" cy="46785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3FFB-A7D9-4BB7-8557-E035B5325FF3}" type="slidenum">
              <a:t>4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F09BE-A990-4259-B993-7FB4B3A195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79280" y="105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辊底式传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CA8-C81C-4D1F-B435-590D2F653267}" type="slidenum">
              <a:t>4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CF8F0-F34B-4E18-8277-E736D761F9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050920" y="1125360"/>
            <a:ext cx="4753080" cy="51850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212-BA6B-4CE9-BBC5-1877A0FD64B8}" type="slidenum">
              <a:t>4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F0801-F905-4D0B-B48F-BCD1126013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9280" y="105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推杆式传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619280" y="1700280"/>
            <a:ext cx="5761080" cy="3933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410E-BA8A-4DD8-9A87-98AD19827FD4}" type="slidenum">
              <a:t>4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73F02D-F508-49AD-AE25-DC606481C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713800" cy="42195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9CA-04D5-4769-BA64-FD4CDA863414}" type="slidenum">
              <a:t>4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00672-C4C5-4EF2-96D3-92F48B5616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836640"/>
            <a:ext cx="806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装炉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影响生产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压坯之间的接触影响烧结时的粘接和变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装炉量受网带高温强度的限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924280"/>
            <a:ext cx="81360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装炉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8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指压坯摆放的松紧程度、舟中装料的深浅、压坯摆放的方向（横放、竖放）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宋体"/>
              </a:rPr>
              <a:t>     </a:t>
            </a:r>
            <a:r>
              <a:rPr b="1" lang="en-US" sz="3000" spc="-1" strike="noStrike">
                <a:solidFill>
                  <a:srgbClr val="ff33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影响烧结炉中的气氛流动、传热、烧结体的变形、表面状态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ff33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注意细长薄壁零件的装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某些情况下采用填料装舟或烧舟密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4B2-E194-44ED-A573-ADCB5FEF966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FC912-64DD-4433-98E5-63909CF7C7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0" y="1628640"/>
            <a:ext cx="9144000" cy="38102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A24-ADEA-4923-8F14-64F3069BAACD}" type="slidenum">
              <a:t>5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62854-9A02-4632-BFD6-A127B355D3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2">
            <a:lum contrast="4000"/>
          </a:blip>
          <a:stretch/>
        </p:blipFill>
        <p:spPr>
          <a:xfrm>
            <a:off x="0" y="1628640"/>
            <a:ext cx="9144000" cy="42166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4000" y="105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步进梁式传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6D9-2AC0-4E33-99DD-D7214157BBAB}" type="slidenum">
              <a:t>5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66388-24E0-421B-8D5E-043397417A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7488360" cy="394488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1C34-4A9F-49B4-A079-67C3AA4C2846}" type="slidenum">
              <a:t>5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5E9D9-6A95-4A11-9DBD-6B866A79DA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95280" y="83340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三、真空烧结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144936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B6E-0A54-4226-85F6-1EC59AFDBAE0}" type="slidenum">
              <a:t>5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B394E-B5B9-4BEB-BE57-D5EC4FA634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7056720" cy="51372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845-F568-4322-B1C7-14D664F29F5E}" type="slidenum">
              <a:t>5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37FEA0-FA58-4C53-A52B-D0A98F5BA1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971640" y="1268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四节 特殊烧结技术和烧结新技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58920" y="1989000"/>
            <a:ext cx="763272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、活化烧结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二、熔渗烧结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、热压烧结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四、组合烧结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五、烧结后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六、电火花烧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七、微波烧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D0C-552C-48D8-9950-F9D18A979D09}" type="slidenum">
              <a:t>5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937B6-2F62-4116-8D3F-17A8D92BCC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539640" y="977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四、组合烧结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26920" y="1708200"/>
            <a:ext cx="76327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烧结把不同形状、不同材质的压坯结合，获得复杂形状或各部位具有不同性能的制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4000" y="393372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过盈烧结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3995640" y="2997360"/>
            <a:ext cx="4465800" cy="30254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909-AFF4-4F60-9703-371CEE51BD5D}" type="slidenum">
              <a:t>5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B6C3C-8AB4-4E0C-AA2A-CCF62DAA89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4360" y="10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二） 熔渗烧结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11280" y="2901960"/>
            <a:ext cx="3889440" cy="297504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684360" y="170028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三） 钎焊烧结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3"/>
          <a:stretch/>
        </p:blipFill>
        <p:spPr>
          <a:xfrm>
            <a:off x="5140440" y="1197000"/>
            <a:ext cx="2973240" cy="51451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7F88-61CC-45B9-AA03-236B2B31C910}" type="slidenum">
              <a:t>5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7D71E-A8DC-4AF9-B4BE-C2F20A8A7C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2411280" y="1125360"/>
            <a:ext cx="4599000" cy="52135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A7AB-6A9D-40E6-9D2E-C07D6C4782C9}" type="slidenum">
              <a:t>5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48D59-23EE-4952-9860-B0A9D6B5CC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9640" y="9777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五、烧结后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484280"/>
            <a:ext cx="7848720" cy="35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机械加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热处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隙的存在影响导热性，对加热、冷却速度、淬火介质提出特殊要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● 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水蒸汽处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高硬度、耐磨性、气密性等的重要后处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DAA2-7B97-4773-A725-96759AE5BD0C}" type="slidenum">
              <a:t>5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69FEC-2434-43EB-BCD1-10658FF953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103824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二、铁铜基粉末冶金零件烧结工艺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773360"/>
            <a:ext cx="70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（一）烧结工艺参数对铁基零件性能的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0581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烧结工艺参数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烧结温度、烧结时间、加热及冷却速度、烧结气氛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3573360"/>
            <a:ext cx="8064720" cy="11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.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烧结温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铁基制品烧结温度的选择主要依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制品成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含碳量、合金元素）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性能要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力学性能）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用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结构件、减摩件）等来确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756-63F7-4D9A-88FD-91BD35D6183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6B3B0-FC1F-4662-874A-0DB10E67D3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9640" y="981000"/>
            <a:ext cx="763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六、电火花烧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自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3284640"/>
            <a:ext cx="7632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七、微波烧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（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7CB1-A049-48F8-AC4F-13968774C666}" type="slidenum">
              <a:t>6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2B00A-1FE0-4F10-A61B-7D2D00238A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539640" y="1916280"/>
            <a:ext cx="806472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教材第五章：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3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81D-F4FE-478A-A4AB-998BC1487BD4}" type="slidenum">
              <a:t>6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0DB63-119C-4C0E-B335-ABF2C89B38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75640" y="2252520"/>
            <a:ext cx="64656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Monotype Corsiva"/>
              </a:rPr>
              <a:t>The End of Chapter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930-4C3D-40E1-B6CA-768802489B64}" type="slidenum">
              <a:t>6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3D141-B7C6-4E54-92E7-338091BE9E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601640" y="122400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241280" y="144936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Thanks a lot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E12F-4388-4103-8752-4838A5CD2ABA}" type="slidenum">
              <a:t>6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CA52F6-9529-45BE-84DD-2BB029C298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16000" y="1268280"/>
            <a:ext cx="708984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致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件制作参考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部分网上教学资源及内部交流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特此感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0DA-E17D-40FC-8A5E-5A9002BAFCD9}" type="slidenum">
              <a:t>6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3051E-1A9E-4461-AF85-96C3839B7C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330280" y="2094840"/>
            <a:ext cx="4500000" cy="3273480"/>
            <a:chOff x="2330280" y="2094840"/>
            <a:chExt cx="4500000" cy="3273480"/>
          </a:xfrm>
        </p:grpSpPr>
        <p:grpSp>
          <p:nvGrpSpPr>
            <p:cNvPr id="109" name=""/>
            <p:cNvGrpSpPr/>
            <p:nvPr/>
          </p:nvGrpSpPr>
          <p:grpSpPr>
            <a:xfrm>
              <a:off x="2936520" y="2094840"/>
              <a:ext cx="3893760" cy="3273480"/>
              <a:chOff x="2936520" y="2094840"/>
              <a:chExt cx="3893760" cy="3273480"/>
            </a:xfrm>
          </p:grpSpPr>
          <p:sp>
            <p:nvSpPr>
              <p:cNvPr id="110" name=""/>
              <p:cNvSpPr/>
              <p:nvPr/>
            </p:nvSpPr>
            <p:spPr>
              <a:xfrm>
                <a:off x="2959560" y="2094840"/>
                <a:ext cx="1800" cy="24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936520" y="4534200"/>
                <a:ext cx="3870360" cy="14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959560" y="2094840"/>
                <a:ext cx="387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98600" y="2107800"/>
                <a:ext cx="1800" cy="2422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43160" y="2094840"/>
                <a:ext cx="1800" cy="2422800"/>
              </a:xfrm>
              <a:prstGeom prst="line">
                <a:avLst/>
              </a:prstGeom>
              <a:ln w="1908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294160" y="2106360"/>
                <a:ext cx="1800" cy="2422800"/>
              </a:xfrm>
              <a:prstGeom prst="line">
                <a:avLst/>
              </a:prstGeom>
              <a:ln w="19080">
                <a:solidFill>
                  <a:srgbClr val="006633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5903640" y="2094840"/>
                <a:ext cx="1440" cy="2422800"/>
              </a:xfrm>
              <a:prstGeom prst="line">
                <a:avLst/>
              </a:prstGeom>
              <a:ln w="1908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36520" y="4306680"/>
                <a:ext cx="3561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2959560" y="3030840"/>
                <a:ext cx="1083600" cy="89280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043160" y="3030840"/>
                <a:ext cx="1238760" cy="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282280" y="3030840"/>
                <a:ext cx="621360" cy="2541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903640" y="3298680"/>
                <a:ext cx="617400" cy="102132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494760" y="4306680"/>
                <a:ext cx="0" cy="227160"/>
              </a:xfrm>
              <a:prstGeom prst="line">
                <a:avLst/>
              </a:prstGeom>
              <a:ln w="19080">
                <a:solidFill>
                  <a:srgbClr val="ffff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980160" y="2561040"/>
                <a:ext cx="2011680" cy="76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54000" bIns="54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99ff"/>
                    </a:solidFill>
                    <a:latin typeface="Times New Roman"/>
                  </a:rPr>
                  <a:t>1050-1200</a:t>
                </a:r>
                <a:r>
                  <a:rPr b="1" lang="en-US" sz="1800" spc="-1" strike="noStrike" baseline="30000">
                    <a:solidFill>
                      <a:srgbClr val="3399ff"/>
                    </a:solidFill>
                    <a:latin typeface="Times New Roman"/>
                  </a:rPr>
                  <a:t>o</a:t>
                </a:r>
                <a:r>
                  <a:rPr b="1" lang="en-US" sz="1800" spc="-1" strike="noStrike">
                    <a:solidFill>
                      <a:srgbClr val="3399ff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60000" y="3925800"/>
                <a:ext cx="772920" cy="50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54000" bIns="54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Times New Roman"/>
                  </a:rPr>
                  <a:t>加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980160" y="3925800"/>
                <a:ext cx="1313640" cy="54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54000" bIns="54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Times New Roman"/>
                  </a:rPr>
                  <a:t>烧结保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13640" y="3927240"/>
                <a:ext cx="774720" cy="55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54000" bIns="54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Times New Roman"/>
                  </a:rPr>
                  <a:t>水冷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31400" y="4731480"/>
                <a:ext cx="1703160" cy="63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54000" bIns="540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3366ff"/>
                    </a:solidFill>
                    <a:latin typeface="Times New Roman"/>
                  </a:rPr>
                  <a:t>时间，</a:t>
                </a:r>
                <a:r>
                  <a:rPr b="1" lang="en-US" sz="1800" spc="-1" strike="noStrike">
                    <a:solidFill>
                      <a:srgbClr val="3366ff"/>
                    </a:solidFill>
                    <a:latin typeface="Times New Roman"/>
                  </a:rPr>
                  <a:t>h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27120" y="4907160"/>
                <a:ext cx="774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209200" y="3852360"/>
              <a:ext cx="841680" cy="5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ff"/>
                  </a:solidFill>
                  <a:latin typeface="Times New Roman"/>
                </a:rPr>
                <a:t>空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30280" y="3093120"/>
              <a:ext cx="600840" cy="14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66ff"/>
                  </a:solidFill>
                  <a:latin typeface="Times New Roman"/>
                </a:rPr>
                <a:t>温度 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632320" y="2485800"/>
              <a:ext cx="0" cy="521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F33-6FEA-473D-A434-7A03CD84974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AFB7FE-64D2-4F1B-B81B-8B12891679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1280" y="1989000"/>
          <a:ext cx="8316720" cy="3772080"/>
        </p:xfrm>
        <a:graphic>
          <a:graphicData uri="http://schemas.openxmlformats.org/drawingml/2006/table">
            <a:tbl>
              <a:tblPr/>
              <a:tblGrid>
                <a:gridCol w="947520"/>
                <a:gridCol w="1573200"/>
                <a:gridCol w="57960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序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烧结温度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±1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适用制品范围举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碳（石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以上）、低密度（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g/c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油轴承、气门导管，石墨添加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的减摩零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基结构零件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-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-Cu-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，石墨添加量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时，一次烧结工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中高强度结构零件（石墨添加量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％，添加适量合金元素），或复压复烧工艺中的高温烧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2411280" y="134136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铁基制品烧结温度范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94D-57C6-4AA9-B354-F9C675BFC0A0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A76B4-3D81-49FC-84A5-C712998792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4360" y="988920"/>
            <a:ext cx="7632720" cy="25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烧结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铁基制品烧结时间的选择主要依据制品成分（含碳量、合金元素）、单重、几何尺寸、壁厚、密度、装炉方式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烧结时间与烧结温度有关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般烧结时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-3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929040"/>
            <a:ext cx="763272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●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连续炉中，保温时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 = L/l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▪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                  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t — 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保温时间（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min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L— 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烧结带长度（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cm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l — 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烧舟或石墨板长度（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cm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n — 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推舟间隔（</a:t>
            </a:r>
            <a:r>
              <a:rPr b="1" i="1" lang="en-US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min/</a:t>
            </a:r>
            <a:r>
              <a:rPr b="1" i="1" lang="zh-CN" sz="2000" spc="-1" strike="noStrike">
                <a:solidFill>
                  <a:srgbClr val="020764"/>
                </a:solidFill>
                <a:latin typeface="Times New Roman"/>
                <a:ea typeface="Times New Roman"/>
              </a:rPr>
              <a:t>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6720" y="6524640"/>
            <a:ext cx="40672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marL="343080" indent="-343080"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Arial"/>
                <a:ea typeface="隶书"/>
              </a:rPr>
              <a:t>School of Materials Science and Engineer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8B5-606B-42F0-B724-1BAD76E70ED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5BF2E-F332-4407-9998-4136923306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2:11:02Z</dcterms:created>
  <dc:creator>番茄花园</dc:creator>
  <dc:description/>
  <dc:language>en-US</dc:language>
  <cp:lastModifiedBy>User</cp:lastModifiedBy>
  <dcterms:modified xsi:type="dcterms:W3CDTF">2014-08-26T03:00:16Z</dcterms:modified>
  <cp:revision>50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2</vt:lpwstr>
  </property>
</Properties>
</file>